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522-CA74-4DDC-8457-DB4BE961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336A-A5F5-49BA-90C6-A11FEBFB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786-6AE5-44DE-8086-E29974A6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081-3BE9-4945-B748-98A1C42E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52D-3E68-4959-81CF-226E54A4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C884-F1B9-4815-8A30-6D5963A0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CE5-FB82-4273-8BF6-2283F1FF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3165-6BA4-4258-A791-A73C2C85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1C33-BE48-4554-96DB-635CB632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15A3-379B-4A35-8D18-610D7EF9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C08B-A3C0-477E-90EC-BE5D0440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FFD6-49DB-49DC-BEAB-B1EE51AA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4553-A173-4FD9-91EE-CD5B4AF87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ÁLVUL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3886200"/>
            <a:ext cx="748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cánica de Flu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an Andrés Sandoval Herr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álvula de Compue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5052960" cy="4395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21160" y="1557360"/>
            <a:ext cx="38228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álvula de Glo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6000" y="1668600"/>
            <a:ext cx="4932360" cy="4932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08720" y="2637000"/>
            <a:ext cx="36352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55640" y="2792520"/>
            <a:ext cx="3456000" cy="2292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2336760"/>
            <a:ext cx="3289320" cy="2828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álvula de Marip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álvula de Áng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2076480" cy="219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03640" y="1649520"/>
            <a:ext cx="504036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álvula de Verif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260440" cy="2098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348000" y="1916280"/>
            <a:ext cx="48578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1:49:09Z</dcterms:created>
  <dc:creator>Juan</dc:creator>
  <dc:description/>
  <dc:language>en-US</dc:language>
  <cp:lastModifiedBy>Juan</cp:lastModifiedBy>
  <dcterms:modified xsi:type="dcterms:W3CDTF">2011-09-27T02:19:47Z</dcterms:modified>
  <cp:revision>5</cp:revision>
  <dc:subject/>
  <dc:title>VÁLVULAS</dc:title>
</cp:coreProperties>
</file>